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F36-D0C5-4791-8C6B-1CE22338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4A8-7F1D-4C17-9FD1-D7EA2680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7D3-A574-4671-8C8A-3539801A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866-9D5D-4F2F-A2B8-38A01FB8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A0E6-323A-44C7-8353-06C5B709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B930-9FF1-4742-8215-F770A486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E276-D835-49BF-88E5-9FCB4F10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58E4-52B0-4281-981D-A39DF109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CA26-88A6-4AA5-9C23-917664D5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8EB5-6035-439A-AB79-CA718B36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74AF-FEBF-40CC-80BE-E8A11809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33E-93CE-4097-8831-DC166318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6154-768D-49AB-A702-0EE171B7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9675-EA9E-455A-AC81-CB977C39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F856-DB6A-473B-92D0-C2EDF8C2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18A5-F469-4CE5-8558-94F68E83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0C27-CB16-4FD1-AC7E-0010DEF6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783-2E61-4A65-BDBF-1EF1EF57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312-BAC6-499B-983D-E98D9961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05E-8F15-4877-B362-518DE9B6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D8C-D24B-4D3E-BB3D-A2F7C4D9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D3E-C5AF-4851-BF95-6C183987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EA6-B620-47E3-920C-69326CEB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BA0F-11B8-4F56-91D9-99C0C3A0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7BFE-2178-46E9-9499-E0D8F191F5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FFF1-02C7-4315-A8BE-CAA8B506E6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29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25.xml"/><Relationship Id="rId18" Type="http://schemas.openxmlformats.org/officeDocument/2006/relationships/slide" Target="slide30.xml"/><Relationship Id="rId19" Type="http://schemas.openxmlformats.org/officeDocument/2006/relationships/slide" Target="slide6.xml"/><Relationship Id="rId20" Type="http://schemas.openxmlformats.org/officeDocument/2006/relationships/slide" Target="slide11.xml"/><Relationship Id="rId21" Type="http://schemas.openxmlformats.org/officeDocument/2006/relationships/slide" Target="slide16.xml"/><Relationship Id="rId22" Type="http://schemas.openxmlformats.org/officeDocument/2006/relationships/slide" Target="slide21.xml"/><Relationship Id="rId23" Type="http://schemas.openxmlformats.org/officeDocument/2006/relationships/slide" Target="slide26.xml"/><Relationship Id="rId24" Type="http://schemas.openxmlformats.org/officeDocument/2006/relationships/slide" Target="slide31.xml"/><Relationship Id="rId25" Type="http://schemas.openxmlformats.org/officeDocument/2006/relationships/slide" Target="slide7.xml"/><Relationship Id="rId26" Type="http://schemas.openxmlformats.org/officeDocument/2006/relationships/slide" Target="slide12.xml"/><Relationship Id="rId27" Type="http://schemas.openxmlformats.org/officeDocument/2006/relationships/slide" Target="slide17.xml"/><Relationship Id="rId28" Type="http://schemas.openxmlformats.org/officeDocument/2006/relationships/slide" Target="slide22.xml"/><Relationship Id="rId29" Type="http://schemas.openxmlformats.org/officeDocument/2006/relationships/slide" Target="slide27.xml"/><Relationship Id="rId30" Type="http://schemas.openxmlformats.org/officeDocument/2006/relationships/slide" Target="slide32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2b2b2"/>
                </a:solidFill>
                <a:latin typeface="Arial Black"/>
              </a:rPr>
              <a:t>Ecology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46280" y="1981080"/>
            <a:ext cx="3849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wo adaptations that make cacti successful in the dese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ome with greatest species divers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rm used to describe the top layer of frozen soil in the tund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umber of organisms in a population an ecosystem can indefinitely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ype of population growth seen when resources are plentiful and no limiting factors are pres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ype of curve that represents population growth when limiting factors are pres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rganisms that start succes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ame for stable ecosystem reached at the end of succes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ose, long-term relationship between 2 or more spec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lationship between humans and e-coli in intestin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103320"/>
          <a:ext cx="9144000" cy="67546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g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m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ship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c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lationship between giraffes and oxpeck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lationship between remora and sha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lationship between a tick and a hum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oup of organisms of the same species that live in the same area at the same ti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oup of populations living in an ecosystem at the same ti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hysical location where an organism li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re an organism lives; what it eats; when it reproduces; who it mates wi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nother term for decompos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ocess by which C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s obtained from the atmosph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rning of fossil fu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level of the pyramid that has the highest amount of ener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nge of N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to ammon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 ways carbon is returned to the atmosph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nge of ammonia back to N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amount of energy that is lost with each trophic lev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name given to animals that only eat other anim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term for the total weight of living organisms within a trophic lev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amount of energy lost by the 4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trophic level if the available energy in the 1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trophic level is 10,0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iome most common in the Midwestern United Sta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ype of trees whose branches can bend to resist weight of sn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8:35:08Z</dcterms:created>
  <dc:creator>jayoig</dc:creator>
  <dc:description/>
  <dc:language>en-US</dc:language>
  <cp:lastModifiedBy>jayoig</cp:lastModifiedBy>
  <dcterms:modified xsi:type="dcterms:W3CDTF">2006-11-14T20:23:32Z</dcterms:modified>
  <cp:revision>4</cp:revision>
  <dc:subject/>
  <dc:title>Ecology</dc:title>
</cp:coreProperties>
</file>